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gif" ContentType="image/gif"/>
  <Override PartName="/ppt/media/image5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10.gif" ContentType="image/gif"/>
  <Override PartName="/ppt/media/image13.png" ContentType="image/png"/>
  <Override PartName="/ppt/media/image9.wmf" ContentType="image/x-wmf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D74-00C2-40C4-ACED-06601DDF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B39-EE21-45E5-8C54-A4C4D957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9C0-DCD0-41C5-9EE9-C5ADC77B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6E5-0836-46D7-A9FE-CB7B55E4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674-0719-4E68-A05C-93833402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B5A-4BD9-4B0D-BE05-42585BA8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AFA-69BC-46A0-B90D-A3B5DBCD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CA8-4B72-4A03-9E15-98133EE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80F-D476-42AB-98A7-36A016CE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52F-8C9D-48AF-8A34-DD722F42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3D8-E568-4940-9200-53BDB99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409-B5F1-4F59-8AFC-CAD0CEC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95A6-6F93-40C1-8CB9-5DEF3A005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.1september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76400" y="828720"/>
            <a:ext cx="578160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мя числительно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часть реч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1643040"/>
          <a:ext cx="8072280" cy="407052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енные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рядко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                                                   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енадца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ерв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тонн  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исо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шр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Рисунок 1" descr="j0356784"/>
          <p:cNvPicPr/>
          <p:nvPr/>
        </p:nvPicPr>
        <p:blipFill>
          <a:blip r:embed="rId2"/>
          <a:stretch/>
        </p:blipFill>
        <p:spPr>
          <a:xfrm>
            <a:off x="5643720" y="44290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j0283494"/>
          <p:cNvPicPr/>
          <p:nvPr/>
        </p:nvPicPr>
        <p:blipFill>
          <a:blip r:embed="rId3"/>
          <a:stretch/>
        </p:blipFill>
        <p:spPr>
          <a:xfrm>
            <a:off x="1643040" y="4357800"/>
            <a:ext cx="104760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853920" y="231840"/>
            <a:ext cx="7351920" cy="1152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714240" y="5788800"/>
            <a:ext cx="8072640" cy="825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слова этой части речи делятся на два разряда: количественные и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2"/>
          <a:stretch/>
        </p:blipFill>
        <p:spPr>
          <a:xfrm>
            <a:off x="353880" y="-146160"/>
            <a:ext cx="8436240" cy="16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4200" y="1571760"/>
          <a:ext cx="8715600" cy="4432320"/>
        </p:xfrm>
        <a:graphic>
          <a:graphicData uri="http://schemas.openxmlformats.org/drawingml/2006/table">
            <a:tbl>
              <a:tblPr/>
              <a:tblGrid>
                <a:gridCol w="939960"/>
                <a:gridCol w="1290600"/>
                <a:gridCol w="927000"/>
                <a:gridCol w="1332000"/>
                <a:gridCol w="1327320"/>
                <a:gridCol w="1184040"/>
                <a:gridCol w="1714680"/>
              </a:tblGrid>
              <a:tr h="804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.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 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3"/>
          <p:cNvSpPr/>
          <p:nvPr/>
        </p:nvSpPr>
        <p:spPr>
          <a:xfrm>
            <a:off x="948600" y="621540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изменяются только по падеж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1928880" y="3643200"/>
            <a:ext cx="214200" cy="2145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928880" y="4857840"/>
            <a:ext cx="214200" cy="21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208080" y="-133200"/>
            <a:ext cx="8727840" cy="14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57120" y="1428840"/>
          <a:ext cx="8429760" cy="3717720"/>
        </p:xfrm>
        <a:graphic>
          <a:graphicData uri="http://schemas.openxmlformats.org/drawingml/2006/table">
            <a:tbl>
              <a:tblPr/>
              <a:tblGrid>
                <a:gridCol w="2357640"/>
                <a:gridCol w="6072120"/>
              </a:tblGrid>
              <a:tr h="22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да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-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етыре.</a:t>
                      </a: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купили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и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тетради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 открывается 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сять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часов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венел </a:t>
                      </a: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вон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500040" y="55742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могут быть разными членами предложения, а порядковые обычно бывают опреде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2"/>
          <a:stretch/>
        </p:blipFill>
        <p:spPr>
          <a:xfrm>
            <a:off x="115920" y="-133200"/>
            <a:ext cx="889956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85840" y="928800"/>
          <a:ext cx="8572320" cy="464328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11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лы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робные 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биратель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ве трети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еме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вадцать два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одна десятая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д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214200" y="571716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делятся на три группы: целые, дробные и собир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bPieSlice"/>
          <p:cNvSpPr/>
          <p:nvPr/>
        </p:nvSpPr>
        <p:spPr>
          <a:xfrm rot="6690600">
            <a:off x="3637800" y="4066920"/>
            <a:ext cx="1414440" cy="1414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j0343297"/>
          <p:cNvPicPr/>
          <p:nvPr/>
        </p:nvPicPr>
        <p:blipFill>
          <a:blip r:embed="rId3"/>
          <a:stretch/>
        </p:blipFill>
        <p:spPr>
          <a:xfrm>
            <a:off x="7000920" y="4000680"/>
            <a:ext cx="1361880" cy="1377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5" descr="j0223774"/>
          <p:cNvPicPr/>
          <p:nvPr/>
        </p:nvPicPr>
        <p:blipFill>
          <a:blip r:embed="rId4"/>
          <a:stretch/>
        </p:blipFill>
        <p:spPr>
          <a:xfrm rot="21352200">
            <a:off x="609480" y="4263840"/>
            <a:ext cx="140184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208080" y="73080"/>
            <a:ext cx="8654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57120" y="1714680"/>
          <a:ext cx="8358120" cy="2803320"/>
        </p:xfrm>
        <a:graphic>
          <a:graphicData uri="http://schemas.openxmlformats.org/drawingml/2006/table">
            <a:tbl>
              <a:tblPr/>
              <a:tblGrid>
                <a:gridCol w="1857600"/>
                <a:gridCol w="2857320"/>
                <a:gridCol w="3643200"/>
              </a:tblGrid>
              <a:tr h="60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а числительн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со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ёхсоты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двадцать т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сти шестнадцать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"/>
          <p:cNvSpPr/>
          <p:nvPr/>
        </p:nvSpPr>
        <p:spPr>
          <a:xfrm>
            <a:off x="214200" y="493236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0" descr="30"/>
          <p:cNvPicPr/>
          <p:nvPr/>
        </p:nvPicPr>
        <p:blipFill>
          <a:blip r:embed="rId3"/>
          <a:stretch/>
        </p:blipFill>
        <p:spPr>
          <a:xfrm>
            <a:off x="6858000" y="4857840"/>
            <a:ext cx="17334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2"/>
          <a:stretch/>
        </p:blipFill>
        <p:spPr>
          <a:xfrm>
            <a:off x="353880" y="60480"/>
            <a:ext cx="858204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357120" y="1857240"/>
          <a:ext cx="8429760" cy="3143520"/>
        </p:xfrm>
        <a:graphic>
          <a:graphicData uri="http://schemas.openxmlformats.org/drawingml/2006/table">
            <a:tbl>
              <a:tblPr/>
              <a:tblGrid>
                <a:gridCol w="2809800"/>
                <a:gridCol w="2810160"/>
                <a:gridCol w="2809800"/>
              </a:tblGrid>
              <a:tr h="1070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не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 конц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 16, 17, 18,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20 и 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м 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80 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0 до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Rectangle 1"/>
          <p:cNvSpPr/>
          <p:nvPr/>
        </p:nvSpPr>
        <p:spPr>
          <a:xfrm>
            <a:off x="214200" y="550188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помнить эти правила выполните упраж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те мягкий знак в числительные там, где это необходим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358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…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..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..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..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..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…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..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..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..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..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42600" y="128556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480" y="9997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числительные делятся на два  разряда: количественные и порядков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в свою очередь делятся на три группы: целые, дробные и  собир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обенностям строения 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ительных от5 до 20 и в числительном 30 на конце пишется мягкий знак. В числительных от 50 до 80 и от 500 до 900 в середине пишется мягкий зн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480" y="85680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В каком предложении из произведений С.Маршака употреблено порядковое числитель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Да послышался вдали выстрел из двуствол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Распустился ландыш в мае, в самый праздник, в первый ден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Бьют часы Кремлёвской башни, свой салют двенадцать раз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«На столе он строит башни, строит город в пять мину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0" descr="30"/>
          <p:cNvPicPr/>
          <p:nvPr/>
        </p:nvPicPr>
        <p:blipFill>
          <a:blip r:embed="rId2"/>
          <a:stretch/>
        </p:blipFill>
        <p:spPr>
          <a:xfrm>
            <a:off x="5654520" y="4572000"/>
            <a:ext cx="207972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рок для 6 класс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ительное как часть реч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Кудрявцева Виктория Анатолье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урс, филологический факульт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ктывкар 201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4200" y="2854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Укажите 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мя числительное – это самостоятельная часть речи, которая обозначает предмет и его порядок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мя числительное – это самостоятель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мя числительное – это служеб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мя числительное – это самостоятельная часть речи, которая обозначает признак предм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7" descr="j0233972"/>
          <p:cNvPicPr/>
          <p:nvPr/>
        </p:nvPicPr>
        <p:blipFill>
          <a:blip r:embed="rId2"/>
          <a:stretch/>
        </p:blipFill>
        <p:spPr>
          <a:xfrm rot="565800">
            <a:off x="7165440" y="5498640"/>
            <a:ext cx="1338480" cy="125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Укажите не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рок восемь – это целое чис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а треть – дроб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о – собирательное числ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рое – собиратель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Цифрами записаны количественные числительные. Укажите строчку, к которой все числительные являются прост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9, 15, 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8, 1000, 100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9999, 300, 4,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3, 29, 18, 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6" descr="21M2"/>
          <p:cNvPicPr/>
          <p:nvPr/>
        </p:nvPicPr>
        <p:blipFill>
          <a:blip r:embed="rId2"/>
          <a:stretch/>
        </p:blipFill>
        <p:spPr>
          <a:xfrm flipH="1">
            <a:off x="6929280" y="5286240"/>
            <a:ext cx="1198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3840" y="85716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Укажите строчку, в которой допущена ошиб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ять, пятнадцать, пятдесят, пя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емь, семнадцать, семьдесят, 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шесть, шестнадцать, шестьдесят, шес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осемь, восемнадцать, восемьдесят, во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6" descr="21M2"/>
          <p:cNvPicPr/>
          <p:nvPr/>
        </p:nvPicPr>
        <p:blipFill>
          <a:blip r:embed="rId2"/>
          <a:stretch/>
        </p:blipFill>
        <p:spPr>
          <a:xfrm flipH="1">
            <a:off x="4714920" y="4857840"/>
            <a:ext cx="1285920" cy="122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85760" y="743040"/>
            <a:ext cx="5772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язык: Учеб. для 6 кл./М.Т.Баранов, Т. А. Ладыженская и др. – М.: 2007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шина Н. С., Розенталь Д. Э. Орфография и пунктуация. М., 1970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циклопедия по русскому язы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очники по русскому языку, 6 клас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ews.1september.r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ополагающий 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им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разряды числительных б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они так называ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зменяются числительные простые, составные и слож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писание числ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е разряды делятся количественные числи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авление результатов исследова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презент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нед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урока по 40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проведения проек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и формулировка те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учащих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28760" y="314640"/>
            <a:ext cx="8429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уроке вы познакомитесь с основными признаками имени числительного как части речи, узнаете, чем отличаются порядковые и количественные числительные, а так же выучите правило написания мягкого знака в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ческие признаки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е признаки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личественных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, сложные и составные чис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на конце и в середине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тем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количественных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, составные и сложные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 знак на конце и в середине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12:48Z</dcterms:created>
  <dc:creator>Zver</dc:creator>
  <dc:description/>
  <dc:language>en-US</dc:language>
  <cp:lastModifiedBy>студент</cp:lastModifiedBy>
  <dcterms:modified xsi:type="dcterms:W3CDTF">2010-04-16T11:33:51Z</dcterms:modified>
  <cp:revision>19</cp:revision>
  <dc:subject/>
  <dc:title>Слайд 1</dc:title>
</cp:coreProperties>
</file>